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E306-4257-4890-9C48-C0051A0D0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CC36-536F-409C-919C-8863C3DF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D2CE5B-FC36-49F6-8B81-D700CE75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8F7B03-7572-452B-A93C-4C663E88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3F4562-5320-4AA7-9A4E-2117AD1E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B871BE-A8DE-4519-985D-936A6D77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882EBC-1FE2-4240-8505-B103A6A0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9AE91-E749-4AA4-9BF5-7BE1E9DA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7FDD93-C057-4171-8B3B-440C637B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AC45A6-B887-4226-8673-E01CC1112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5346CA-F3F9-4B62-968B-EA2799241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FBEBA2-00E5-421D-965F-F94B982E7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7842-C1D2-4EC2-B56F-285C820A4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4008CB-1B56-4A29-9273-76294824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BC9D14-0B5A-4CF6-BFFA-B625E382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1A8222-E80E-4D08-8841-4C55177D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740396-9307-461E-B71F-64B84FDB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751D56-C621-45B3-AA92-F9B2F35E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8D7C0A-376E-4046-8045-1F61B879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A2E530-FDB9-4625-BBE0-188BCF08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37B83E-9C02-4E5C-BDB2-4B7D49C2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FA43ED-7C49-47B4-9ED2-11351AE6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83CBAA-8BB8-41A9-9D0D-94DE64109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81E1-6C10-4735-8509-06F2D9635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4BC5FC-3C74-4DBF-A148-5CBB29200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874B2-1DA8-4439-BC4D-F78062471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6D27CA-DE99-43E7-A0C2-13D70873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F762B-9AEC-46C7-B655-218D5375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E9A82B-565A-4118-9A33-F3C87261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19ED2-04A6-43EC-8AF4-06B9C5FB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F0A8B-7B82-4B20-AE33-82AD0A87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5F219-FA29-4E4E-A14E-19FC79F7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59A8D-B9E7-4F6B-926E-BD7D6BF8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B4AD3B-5DBD-4E1C-956A-9C8B2D67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AA1A-E484-4CD0-A2DB-1C70D12CB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7ECE84-CFA1-4C76-B897-96319881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6363C6-1FC0-405C-A316-2C7076A91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1C7E8D-0C72-4FEA-9C4C-FF8C9C8AA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F4BF95-14F1-4EE8-BC73-3C4300AE9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8E8896-996C-4FBD-BB70-A443F368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8AE8C9-818F-4A2D-8799-A10C9AA6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C0BDDF-F7EF-4B12-9EE7-1A2C2958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8091A7-53CC-41B8-894F-7FE49900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2B71EA-8324-4914-BDB6-1EEC1553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7E7AF0-D2DB-41B2-9D40-31947984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8F551-DAEA-441E-80AF-E9369D7C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2E3FFE-EC29-4A1E-9A65-AEFBA912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6CC1C1-D2FD-4731-8B60-11EA37DB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668C79-9745-4436-A019-C254826B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530436-7896-43E4-8847-938002B98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26C8A4-3BC0-4738-BB3F-776230AC0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898567-D176-4664-962A-25A77AAA7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E556DC-C74D-4370-88D4-7B31BF60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A01B04-448F-4437-810D-F7CF0E62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CE4018-E8AF-443C-BE3E-781A2F61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15A6BA-BF93-4549-975D-41826F08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4463-FFB3-4C1B-BF09-E9D4C5C1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334CD5-3E10-489C-857C-71359C22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538BC7-8DF8-4071-8D44-28920443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D1BC56-C238-467A-B406-F5E357A1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92F7F3-37F6-4726-B85C-63C49782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3BDB9C-FE53-4577-B036-1E4E6240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157E4B-4937-4C44-AC52-B10DCB9BC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149EB7-AF58-4F4B-B970-CAF53E310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D199-356F-4E36-BE17-5A767257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F947-B4ED-4030-9C80-FA476C99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23B4-379B-4DB6-BEC8-9D3DEC4B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D7A8-FF91-42B3-9AFA-9CE415EE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FBF5-5366-47B1-BBB8-100E9359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1578-F014-42A4-B2A5-60D136C5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BFDD-AAA8-43AB-A3D9-52275A75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D0DF-96AC-4C73-AF70-C07AC178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D8CE0-8CD2-4C78-B7AC-A2CFE6F73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3115-917F-449D-B0F1-114F0250D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423C3-F7E2-42DB-A767-376DA3E42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47AC0-AF67-4B47-A161-9F31A8CE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6F84E-C8C2-4C39-BC8D-07F378EA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6D4D3-6721-443D-B589-FEBF8758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94005-DB75-4F09-93D4-205610E4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0CD7-A692-4164-B89C-FD241D06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9B8F4-E9DF-407A-9EFC-7808BE12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3D545-F9DA-43BF-BC17-37CD70EE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1D982-1D62-44A8-98B5-4D4D47AD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91FA5-A697-40AB-8D77-1714E6B7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31E84-8919-41DD-A532-DD5395B5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DC2B7-BD0C-4445-9C0A-AD32938F4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C9CFF-16E2-44BC-BE03-D56564D30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DFA26-196F-4611-808E-744CC347F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27F41-18A8-4E59-B91F-FA7E36DC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DFD4F-98C1-4DCB-A7B1-ADD1B0A9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65A4-6EBF-4494-826F-705E2151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69D5F-8228-40FB-A6A4-5516C997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D54E9-EAB9-40A0-8AD2-C47478B8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2EFBB-5448-4634-B4F3-C5961830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74A5C-FB1B-4BE8-854C-419ED82B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E3760-B3CA-4594-84B8-45CE2C44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41701-4F05-4487-9EE3-F4B043C9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72FDC-9FDB-43AD-970A-16A52698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4580A-D4D9-4B5D-B724-1C5A88800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8BBDD-E71B-4ABA-9552-4A01F0117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16042-B250-4E2E-A299-5148266A2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2D31-7BD1-497E-A0AF-4FE18A22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14CCB-C39E-473F-AF84-334D1BE4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39D46-772F-41BA-9AE4-A01ABED1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97790-27C3-4C16-A821-22E09A6A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82629-5FDA-42FD-9EEF-FE8D06B6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4C1C4-8882-4CEF-A716-7F9C3E1A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E58C7-5691-404F-A797-CB076056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26A49-5850-4DED-A50C-302BA33C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BB7BF-DF18-4F1B-9191-BE130231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7FF32-E297-4589-A9F0-0544FE5A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A4D2E-9AD7-43DB-902B-8B1A63727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1207-D81F-4453-A8E6-E319B5AC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D9BF7-0E58-457D-9C01-B50F512C0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69151-7279-4D7F-B47B-78FDC7ECC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97291-BAC8-4E87-9FF2-CA86B156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BE5A2-C84D-4FD2-9EC7-E46AD656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58180-5940-48E6-AA68-BC18DBF9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2DD5C-F094-41A1-B37D-6E816BE5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92E9F-0CE0-466F-895B-980E5BD5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19F7B-C644-41E9-A85D-FCDA13A5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7A281-0E79-4A92-8F09-B2AF3924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BE3C3-324B-43AD-8A17-DEC15314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7424-5141-4E4A-860E-EC065A80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68A68-BFCD-4B76-9A91-ED7866F3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82F21-9EB3-4BCE-8733-9F9361429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70276-F3D5-420C-AB2B-F2B5F066A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3E3D1-E392-473E-835E-DABF63B81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B9D8E-3F74-44C1-A3D6-0739F072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0B413-0D00-46EB-96C9-C0E874BB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3112C-D7D2-4542-940C-DDB3F9F1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B1A00-1B8E-415C-94BD-9A267A31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E158D-6144-49B3-96FA-F22CB8DA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FEAF3-B753-45A0-B998-45BF9A5D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3939-6972-46C8-B15A-6B180E53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C48E2-2631-48DB-B701-C992D100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56ABD-1F12-4FB0-8928-354EEE94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DD897-5508-4BF3-97F4-80DE28A5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18F0F-7407-4C3D-BBF1-7D69205A0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29137-9F02-4331-A6EE-9AD90D51D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AFB5D-682C-4D56-A679-AB8EF922F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9C8D0-F99D-4FB1-9348-3746805B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6C859-DF13-4AFF-8819-495727A6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ED379-2D8B-4740-B1E7-AE50D674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BC84F-8F29-45D7-AB6D-58E52B4D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FC4E-00EA-4A19-8DE7-0441EC80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8A5DE-D9AC-4B7E-8D67-93BB1B2F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CF041-0D2F-405B-90E9-A5A0F75F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16228-8069-4910-8DCD-7E813E11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2DA15-E350-4E5E-948F-9A1326E8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8F21D-F879-4562-8113-200D4D40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5B294-D483-45FC-A71C-255FE715B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FD5ED-42C9-4C4B-B8A3-765D725DD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ECC090-1469-427D-8FD7-AF57F5FA9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9BF955-F740-4DF3-BDBA-6ACFAA34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2FAC2D-38B4-4259-BF5D-EA5FFE46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993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9938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9939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3" name="椭圆 39940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" name="椭圆 39941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5" name="椭圆 39942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6" name="椭圆 39943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7CFF0-FF6E-4695-A72B-E73D90216F4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DEDC-48F0-4E47-B2DA-0C9D54862E1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C965-B348-47A2-9F3D-7DF6FA271F7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B699-CFF1-479F-BA7D-A23766FA64B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757D-9B42-4FCD-8BDB-59945331A2BB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40961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椭圆 40962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50" name="椭圆 40963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51" name="椭圆 40964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52" name="椭圆 40965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53" name="椭圆 40966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54" name="椭圆 40967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C333-4562-4D9C-ABB7-F46CF3A7D03B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9660-8329-4A0F-BB68-FC6D4B8D66B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36BF-2E56-4A20-984C-998E4D5BD94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9A8F-BF2B-49E6-8CC7-8632B42D75B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2E9E-F376-4225-B31A-9D5EF174D60B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D3B4-C710-4F22-8E19-DAA86F3D39B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E5FA-51BB-488C-A2E5-3F4A61CF14CB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7D0A-A4B0-45A3-B799-49159F9A844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图片 5124" descr="呼唤星星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华文行楷"/>
              </a:rPr>
              <a:t>第二次：三年前在南京读书时看繁星的情景和感受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星光在我们的肉眼里虽然微小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……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好像它们就是我的朋友，它们常常在和我谈话一样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这几句表达了作者与星星亲密、投机的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伙伴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之情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。也表现了作者对光明的追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23640" y="764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华文行楷"/>
              </a:rPr>
              <a:t>第三次：如今在海上望星星的感受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0" y="2176560"/>
            <a:ext cx="89265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我望着那许多认识的星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我仿佛看见它们在对我霎眼，我仿佛听见它们在小声说话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……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现在睡在母亲的怀里了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这里写出了无比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惬意、信赖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与星星的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知心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之情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。从中我们可以感悟到作者的童心、童趣以及对大自然的热爱、对美好生活的向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3300"/>
                </a:solidFill>
                <a:latin typeface="Arial"/>
              </a:rPr>
              <a:t>三次看星感受不同的原因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96720" y="494172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随着作者年龄和生活阅历的增长，对星空的观察和感知也在逐步加深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文本框 16387"/>
          <p:cNvSpPr/>
          <p:nvPr/>
        </p:nvSpPr>
        <p:spPr>
          <a:xfrm>
            <a:off x="900000" y="1268280"/>
            <a:ext cx="7561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从前在家乡－－作者还是一个儿童。对母亲极为依恋。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96" name="文本框 16388"/>
          <p:cNvSpPr/>
          <p:nvPr/>
        </p:nvSpPr>
        <p:spPr>
          <a:xfrm>
            <a:off x="828720" y="2421000"/>
            <a:ext cx="7632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三年前在南京－－作者当时十九岁，远离家乡，异地求学，渴望志同道合的朋友。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97" name="文本框 16389"/>
          <p:cNvSpPr/>
          <p:nvPr/>
        </p:nvSpPr>
        <p:spPr>
          <a:xfrm>
            <a:off x="900000" y="3573360"/>
            <a:ext cx="6913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如今在海上－－作者是在去法国求学的途中，远离家乡，远离祖国。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8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8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3300"/>
                </a:solidFill>
                <a:latin typeface="Arial"/>
              </a:rPr>
              <a:t>我们一起来解决：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26920" y="2349000"/>
            <a:ext cx="76932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同学们还有哪些问题没有解决？提出来大家共同探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课堂小结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3716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Arial"/>
              </a:rPr>
              <a:t>本节课我收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7200" spc="-1" strike="noStrike">
                <a:solidFill>
                  <a:srgbClr val="0000ff"/>
                </a:solidFill>
                <a:latin typeface="Arial"/>
              </a:rPr>
              <a:t>最大的是什么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巩固新知，当堂训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798984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繁星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作者是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----------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原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--------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字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--------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现代著名的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---------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------------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。他的作品主要有“爱情三部曲”：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--------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-------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------------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；“激流三部曲”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-------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《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----------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---------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。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繁星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是他的一篇游记，从文学角度讲，体裁属于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------------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将下列词语中的错别字改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半明半没    摇摇欲堕  星群密部  眼睛漠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背诵课文第三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课外作业，拓展延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繁星是常见的，而在作家的笔下却写得那么动人。假如让你以“繁星”为题作文，你将写些什么，怎样写呢？请同学们动手写一写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97964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0" lang="zh-CN" sz="8400" spc="-1" strike="noStrike">
                <a:solidFill>
                  <a:srgbClr val="ff3300"/>
                </a:solidFill>
                <a:latin typeface="Arial"/>
              </a:rPr>
              <a:t>繁   星</a:t>
            </a:r>
            <a:r>
              <a:rPr b="0" lang="en-US" sz="8400" spc="-1" strike="noStrike">
                <a:solidFill>
                  <a:srgbClr val="ff3300"/>
                </a:solidFill>
                <a:latin typeface="Arial"/>
              </a:rPr>
              <a:t>》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700360" y="3068640"/>
            <a:ext cx="7772400" cy="19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 u="sng">
                <a:solidFill>
                  <a:srgbClr val="0000ff"/>
                </a:solidFill>
                <a:uFillTx/>
                <a:latin typeface="Arial"/>
              </a:rPr>
              <a:t>第二课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教学目标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阅读理解重点段落。继续学习排比、比喻等修辞手法的运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体会作者酷爱星天的深切感受，培养热爱大自然的思想感情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合作探究，解决疑难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64720" y="2637000"/>
            <a:ext cx="827892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仰   望  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&gt;  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欲   睡  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&gt;  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沉  睡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—4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句）     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—8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句）  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9—10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句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文本框 23555"/>
          <p:cNvSpPr/>
          <p:nvPr/>
        </p:nvSpPr>
        <p:spPr>
          <a:xfrm>
            <a:off x="1187280" y="162864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理清第三段写作思路：</a:t>
            </a: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矩形 6145"/>
          <p:cNvSpPr/>
          <p:nvPr/>
        </p:nvSpPr>
        <p:spPr>
          <a:xfrm>
            <a:off x="2895480" y="3962520"/>
            <a:ext cx="3429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巴  金</a:t>
            </a:r>
            <a:endParaRPr b="0" lang="en-US" sz="6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51" name="矩形 6146"/>
          <p:cNvSpPr txBox="1"/>
          <p:nvPr/>
        </p:nvSpPr>
        <p:spPr>
          <a:xfrm>
            <a:off x="2057400" y="1295280"/>
            <a:ext cx="45720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cap="sq" w="12600">
                  <a:solidFill>
                    <a:srgbClr val="b2b2b2"/>
                  </a:solidFill>
                  <a:round/>
                </a:ln>
                <a:solidFill>
                  <a:srgbClr val="6767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繁   星</a:t>
            </a:r>
            <a:endParaRPr b="0" lang="en-US" sz="9600" spc="1" strike="noStrike">
              <a:ln cap="sq" w="12600">
                <a:solidFill>
                  <a:srgbClr val="b2b2b2"/>
                </a:solidFill>
                <a:round/>
              </a:ln>
              <a:solidFill>
                <a:srgbClr val="6767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、“渐渐地我的眼睛模糊了，我好像看见无数萤火虫在我的周围飞舞。”繁星与萤火虫有哪些相似点？这表明了繁星是怎样的情状？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矩形 24578"/>
          <p:cNvSpPr/>
          <p:nvPr/>
        </p:nvSpPr>
        <p:spPr>
          <a:xfrm>
            <a:off x="611280" y="1268280"/>
            <a:ext cx="748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　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　    “繁星”和“萤火虫”都在夜间能看见，都有光亮，。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情状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摇摇欲坠、闪烁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把繁星比作“无数萤火虫在我的周围飞舞”，十分生动形象，富有情趣。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、“在星的怀抱中我微笑着，我沉睡着。我觉得自己是一个孩子，现在睡在母亲的怀里了。”“我”既然“沉睡着”，怎么又“觉得”？这样写矛盾吗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不矛盾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自己已经不是小孩子了，只是感觉上仿佛回到了童年，所以用“觉得”二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、“看，那个巨人还在跑呢！”你是怎样理解这句话的？“那个巨人”指的是什么？</a:t>
            </a:r>
            <a:br>
              <a:rPr sz="34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一个“看”字，呼唤读者，感情上与读者直接交流，更能引起注意。       一个“呢”字，表示动作正在继续，显得更加生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         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那个巨人”指状如巨人的星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Arial"/>
                <a:ea typeface="黑体"/>
              </a:rPr>
              <a:t>二、作者把星天比作母亲，把星星比作朋友，并和它们说话，运用了哪些修辞手法？表达了一种什么样的感情？</a:t>
            </a:r>
            <a:br>
              <a:rPr sz="34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运用了比喻、拟人，使文章生动、形象的表达情感。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作者把星天比作母亲，是为了突出他看繁星时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温馨甜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感受；把星天比作朋友，是为了突出作者看繁星时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亲密和谐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感受，它们表达了作者对大自然的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热爱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之情，对美好生活的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向往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童心、童趣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减。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/>
          </p:nvPr>
        </p:nvSpPr>
        <p:spPr>
          <a:xfrm>
            <a:off x="684000" y="17002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      “渐渐地我的眼睛模糊了，我好像看见无数萤火虫在我的周围飞舞。”（比喻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楷体_GB2312"/>
              </a:rPr>
              <a:t>　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将“我”的眼睛模糊时所见的无数星星摇摇欲坠的情态，比作“无数萤火虫在我的周围飞舞”，十分生动形象，富有情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文本框 28674"/>
          <p:cNvSpPr/>
          <p:nvPr/>
        </p:nvSpPr>
        <p:spPr>
          <a:xfrm>
            <a:off x="1692360" y="33336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     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划出文中的比喻、拟人、排比的语句，简单赏析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700" spc="-1" strike="noStrike">
                <a:solidFill>
                  <a:srgbClr val="ff3300"/>
                </a:solidFill>
                <a:latin typeface="Arial"/>
                <a:ea typeface="华文行楷"/>
              </a:rPr>
              <a:t>拟　人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755280" y="119664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       “我望着那许多认识的星，我仿佛看见它们在对我霎眼，我仿佛听见它们在小声说话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在作者眼里，天上的那许多认识的星星都有眼睛、有嘴巴、有思想，它们走近“我”，同“我”交谈。这样写，将“我”与大自然融为一体，使人如临其境，如闻其声，产生无穷的遐想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700" spc="-1" strike="noStrike">
                <a:solidFill>
                  <a:srgbClr val="ff3300"/>
                </a:solidFill>
                <a:latin typeface="Arial"/>
                <a:ea typeface="华文行楷"/>
              </a:rPr>
              <a:t>排　比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4000" y="112536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例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       “海上的夜是柔和的，是静寂的，是梦幻的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　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依次从触觉、听觉和幻觉的角度描写海上之夜令“我”产生的种种美感。由表及里，使读者受到强烈的感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3300"/>
                </a:solidFill>
                <a:latin typeface="Arial"/>
              </a:rPr>
              <a:t>我们一起来解决：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760320" y="1609560"/>
            <a:ext cx="7693200" cy="37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同学们还有哪些问题没有解决？提出来大家共同探究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课堂小结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3716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本节课我收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最大的是</a:t>
            </a: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…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100" spc="-1" strike="noStrike">
                <a:solidFill>
                  <a:srgbClr val="0000ff"/>
                </a:solidFill>
                <a:latin typeface="Arial"/>
              </a:rPr>
              <a:t>、作者把星星、星空写得仿佛有生命似的，把这样的句子画出来，大声朗读，再想想为什么在作者心目中星星、星空会变得像有生命似的？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4360" y="3141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者热爱星空，热爱大自然、在他的心目中，繁星是母亲，是朋友，繁星象征着光明，在星空下，他感觉温馨、亲切、甜蜜、惬意、所以星星、星空会变得像有生命似的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文本框 33795"/>
          <p:cNvSpPr/>
          <p:nvPr/>
        </p:nvSpPr>
        <p:spPr>
          <a:xfrm>
            <a:off x="3276720" y="5651640"/>
            <a:ext cx="215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34" name="矩形 33796"/>
          <p:cNvSpPr/>
          <p:nvPr/>
        </p:nvSpPr>
        <p:spPr>
          <a:xfrm>
            <a:off x="539640" y="189000"/>
            <a:ext cx="54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课堂练习</a:t>
            </a:r>
            <a:br>
              <a:rPr sz="3200"/>
            </a:b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907640" y="333360"/>
            <a:ext cx="47437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 u="sng">
                <a:solidFill>
                  <a:srgbClr val="ff3300"/>
                </a:solidFill>
                <a:uFillTx/>
                <a:latin typeface="Arial"/>
              </a:rPr>
              <a:t>走近作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9d8ec"/>
                </a:solidFill>
                <a:latin typeface="Arial"/>
                <a:ea typeface="黑体"/>
              </a:rPr>
              <a:t>巴金（</a:t>
            </a:r>
            <a:r>
              <a:rPr b="1" lang="en-US" sz="2800" spc="-1" strike="noStrike">
                <a:solidFill>
                  <a:srgbClr val="d9d8ec"/>
                </a:solidFill>
                <a:latin typeface="Arial"/>
                <a:ea typeface="黑体"/>
              </a:rPr>
              <a:t>1904—2005</a:t>
            </a:r>
            <a:r>
              <a:rPr b="1" lang="zh-CN" sz="2800" spc="-1" strike="noStrike">
                <a:solidFill>
                  <a:srgbClr val="d9d8ec"/>
                </a:solidFill>
                <a:latin typeface="Arial"/>
                <a:ea typeface="黑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现代著名作家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小说家、散文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杰出的语言大师，原名李尧棠，字芾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要作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长篇小说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爱情三部曲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雾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雨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电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激流三部曲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春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秋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篇小说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憩园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寒夜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散文集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保卫和平的人们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友谊集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随想录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散文、小说、特写集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新声集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赞歌集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还有不少短篇小说、童话、杂文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文本框 34817"/>
          <p:cNvSpPr/>
          <p:nvPr/>
        </p:nvSpPr>
        <p:spPr>
          <a:xfrm>
            <a:off x="6084720" y="765000"/>
            <a:ext cx="14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/>
          </p:nvPr>
        </p:nvSpPr>
        <p:spPr>
          <a:xfrm>
            <a:off x="539280" y="476280"/>
            <a:ext cx="72723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星光在我们的肉眼里虽然微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然而它使我们觉得光明无处不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什么星光微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者却觉得光明无处不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文本框 34819"/>
          <p:cNvSpPr/>
          <p:nvPr/>
        </p:nvSpPr>
        <p:spPr>
          <a:xfrm>
            <a:off x="250920" y="2781360"/>
            <a:ext cx="684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38" name="文本框 34820"/>
          <p:cNvSpPr/>
          <p:nvPr/>
        </p:nvSpPr>
        <p:spPr>
          <a:xfrm>
            <a:off x="1116000" y="2565360"/>
            <a:ext cx="60120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因为作者当时很年轻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充满幻想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充满朝气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所以他在微小的星光中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觉得光明无处不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图片 35841" descr="200992816592555"/>
          <p:cNvPicPr/>
          <p:nvPr/>
        </p:nvPicPr>
        <p:blipFill>
          <a:blip r:embed="rId1"/>
          <a:stretch/>
        </p:blipFill>
        <p:spPr>
          <a:xfrm>
            <a:off x="0" y="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640" name="文本框 35842"/>
          <p:cNvSpPr/>
          <p:nvPr/>
        </p:nvSpPr>
        <p:spPr>
          <a:xfrm>
            <a:off x="900000" y="220500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作者重点描写的是第三次看繁星，那前两次的描写有什么作用？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41" name="文本框 35843"/>
          <p:cNvSpPr/>
          <p:nvPr/>
        </p:nvSpPr>
        <p:spPr>
          <a:xfrm>
            <a:off x="1116000" y="350028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前两次描写起铺垫作用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通过与前两次的对比，更能表达作者现在的感情。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五、课外作业，拓展延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巴金读过不少文学方面的书，认得一些星星，那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世纪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代初的事了。当今，人们对宇宙星空的探索不断深入。找有关的科技书或报刊读一读，约几个好朋友，晚上去观察星星，写写自己的体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ff"/>
                </a:solidFill>
                <a:latin typeface="Arial"/>
              </a:rPr>
              <a:t>写作背景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92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年，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9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岁的巴金到了上海、南京，学习期间参加了一些社会活动，他的民主思想得到进一步发展。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927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5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日，他乘法国邮船“昂热”号离沪赴法，在邮船航行期间，巴金撰写了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海行杂记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8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则。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繁星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是其中的一篇游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文本框 9217"/>
          <p:cNvSpPr/>
          <p:nvPr/>
        </p:nvSpPr>
        <p:spPr>
          <a:xfrm>
            <a:off x="457200" y="45720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学习目标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57" name="文本框 9218"/>
          <p:cNvSpPr/>
          <p:nvPr/>
        </p:nvSpPr>
        <p:spPr>
          <a:xfrm>
            <a:off x="250920" y="1413000"/>
            <a:ext cx="53337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树立热爱大自然的思想，学会观察大自然。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学习并运用联想和想像来写景状物。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学习并运用比喻、拟人、排比等修辞手法。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558" name="图片 9219" descr="童趣图"/>
          <p:cNvPicPr/>
          <p:nvPr/>
        </p:nvPicPr>
        <p:blipFill>
          <a:blip r:embed="rId1"/>
          <a:stretch/>
        </p:blipFill>
        <p:spPr>
          <a:xfrm>
            <a:off x="3581280" y="2590920"/>
            <a:ext cx="556272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预习反馈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给划线字注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440" y="1989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半明半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昧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      )      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霎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眼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       )     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模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糊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      )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　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纳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凉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      )     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摇摇欲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坠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       )     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静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寂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       )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10243"/>
          <p:cNvSpPr/>
          <p:nvPr/>
        </p:nvSpPr>
        <p:spPr>
          <a:xfrm>
            <a:off x="2797200" y="256536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mè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ｉ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62" name="文本框 10244"/>
          <p:cNvSpPr/>
          <p:nvPr/>
        </p:nvSpPr>
        <p:spPr>
          <a:xfrm>
            <a:off x="5066640" y="2565360"/>
            <a:ext cx="78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s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à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63" name="文本框 10245"/>
          <p:cNvSpPr/>
          <p:nvPr/>
        </p:nvSpPr>
        <p:spPr>
          <a:xfrm>
            <a:off x="7477920" y="256536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ｍ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ó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64" name="文本框 10246"/>
          <p:cNvSpPr/>
          <p:nvPr/>
        </p:nvSpPr>
        <p:spPr>
          <a:xfrm>
            <a:off x="2077200" y="314172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ｎ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à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65" name="文本框 10247"/>
          <p:cNvSpPr/>
          <p:nvPr/>
        </p:nvSpPr>
        <p:spPr>
          <a:xfrm>
            <a:off x="5003640" y="32130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z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u ì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66" name="文本框 10248"/>
          <p:cNvSpPr/>
          <p:nvPr/>
        </p:nvSpPr>
        <p:spPr>
          <a:xfrm>
            <a:off x="7477200" y="314172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ｊ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ì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云形标注 11265"/>
          <p:cNvSpPr/>
          <p:nvPr/>
        </p:nvSpPr>
        <p:spPr>
          <a:xfrm>
            <a:off x="0" y="0"/>
            <a:ext cx="2514600" cy="1600200"/>
          </a:xfrm>
          <a:prstGeom prst="cloudCallout">
            <a:avLst>
              <a:gd name="adj1" fmla="val 759"/>
              <a:gd name="adj2" fmla="val 57638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568" name="图片 11266" descr="main"/>
          <p:cNvPicPr/>
          <p:nvPr/>
        </p:nvPicPr>
        <p:blipFill>
          <a:blip r:embed="rId2"/>
          <a:stretch/>
        </p:blipFill>
        <p:spPr>
          <a:xfrm>
            <a:off x="5562720" y="4362480"/>
            <a:ext cx="3581280" cy="2495520"/>
          </a:xfrm>
          <a:prstGeom prst="rect">
            <a:avLst/>
          </a:prstGeom>
          <a:ln w="0">
            <a:noFill/>
          </a:ln>
        </p:spPr>
      </p:pic>
      <p:sp>
        <p:nvSpPr>
          <p:cNvPr id="569" name="文本框 11267"/>
          <p:cNvSpPr/>
          <p:nvPr/>
        </p:nvSpPr>
        <p:spPr>
          <a:xfrm>
            <a:off x="228600" y="16002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Times New Roman"/>
                <a:ea typeface="宋体"/>
              </a:rPr>
              <a:t>             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70" name="文本框 11268"/>
          <p:cNvSpPr/>
          <p:nvPr/>
        </p:nvSpPr>
        <p:spPr>
          <a:xfrm>
            <a:off x="755640" y="2133720"/>
            <a:ext cx="7812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快速朗读课文，思考巴金描写了几次欣赏繁星美景？这几次描写的内在顺序是什么？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71" name="文本框 11269"/>
          <p:cNvSpPr/>
          <p:nvPr/>
        </p:nvSpPr>
        <p:spPr>
          <a:xfrm>
            <a:off x="304920" y="457200"/>
            <a:ext cx="261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整体感知：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72" name="文本框 11270"/>
          <p:cNvSpPr/>
          <p:nvPr/>
        </p:nvSpPr>
        <p:spPr>
          <a:xfrm>
            <a:off x="684360" y="4005360"/>
            <a:ext cx="612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三次       时间顺序</a:t>
            </a:r>
            <a:endParaRPr b="0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文本框 12289"/>
          <p:cNvSpPr/>
          <p:nvPr/>
        </p:nvSpPr>
        <p:spPr>
          <a:xfrm>
            <a:off x="457200" y="53352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讨论学习</a:t>
            </a:r>
            <a:endParaRPr b="0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74" name="文本框 12290"/>
          <p:cNvSpPr/>
          <p:nvPr/>
        </p:nvSpPr>
        <p:spPr>
          <a:xfrm>
            <a:off x="0" y="1557360"/>
            <a:ext cx="907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9d8ec"/>
                </a:solidFill>
                <a:latin typeface="Times New Roman"/>
                <a:ea typeface="黑体"/>
              </a:rPr>
              <a:t>细读课文，找出文中三次看星的时间、地点、感受的词句。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228600" y="2276640"/>
          <a:ext cx="8915400" cy="3933720"/>
        </p:xfrm>
        <a:graphic>
          <a:graphicData uri="http://schemas.openxmlformats.org/drawingml/2006/table">
            <a:tbl>
              <a:tblPr/>
              <a:tblGrid>
                <a:gridCol w="914400"/>
                <a:gridCol w="1371600"/>
                <a:gridCol w="1295280"/>
                <a:gridCol w="533412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时 间</a:t>
                      </a: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地  点</a:t>
                      </a: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 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感        受</a:t>
                      </a: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第一                    次</a:t>
                      </a:r>
                      <a:endParaRPr b="0" lang="en-US" sz="2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第二次</a:t>
                      </a:r>
                      <a:endParaRPr b="0" lang="en-US" sz="2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第三次</a:t>
                      </a:r>
                      <a:endParaRPr b="0" lang="en-US" sz="2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6" name="文本框 12318"/>
          <p:cNvSpPr/>
          <p:nvPr/>
        </p:nvSpPr>
        <p:spPr>
          <a:xfrm>
            <a:off x="1116000" y="32130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从前七八月的夜晚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77" name="文本框 12319"/>
          <p:cNvSpPr/>
          <p:nvPr/>
        </p:nvSpPr>
        <p:spPr>
          <a:xfrm>
            <a:off x="1116000" y="429264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三年前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78" name="文本框 12320"/>
          <p:cNvSpPr/>
          <p:nvPr/>
        </p:nvSpPr>
        <p:spPr>
          <a:xfrm>
            <a:off x="1258920" y="52293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如 今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79" name="文本框 12321"/>
          <p:cNvSpPr/>
          <p:nvPr/>
        </p:nvSpPr>
        <p:spPr>
          <a:xfrm>
            <a:off x="2484360" y="328464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家乡庭院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80" name="文本框 12322"/>
          <p:cNvSpPr/>
          <p:nvPr/>
        </p:nvSpPr>
        <p:spPr>
          <a:xfrm>
            <a:off x="2411280" y="429264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南京菜园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81" name="文本框 12323"/>
          <p:cNvSpPr/>
          <p:nvPr/>
        </p:nvSpPr>
        <p:spPr>
          <a:xfrm>
            <a:off x="2700360" y="53006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海  上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82" name="文本框 12324"/>
          <p:cNvSpPr/>
          <p:nvPr/>
        </p:nvSpPr>
        <p:spPr>
          <a:xfrm>
            <a:off x="3851280" y="32130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望着星天，我就会忘记一切，仿佛回到了母亲的怀里似的。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83" name="文本框 12325"/>
          <p:cNvSpPr/>
          <p:nvPr/>
        </p:nvSpPr>
        <p:spPr>
          <a:xfrm>
            <a:off x="3851280" y="41497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星光在我们的肉眼里虽然微小，然而它使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它们常常在和我谈话一样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84" name="文本框 12326"/>
          <p:cNvSpPr/>
          <p:nvPr/>
        </p:nvSpPr>
        <p:spPr>
          <a:xfrm>
            <a:off x="3851280" y="522936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我望着那许多认识的星，我仿佛看见它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现在睡在母亲的怀里了。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68000" y="134136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华文行楷"/>
              </a:rPr>
              <a:t>第一次：从前在家乡观星天的情景和感受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08000" y="2637000"/>
            <a:ext cx="5943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   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望着星天，我就会忘记一切，仿佛回到了母亲的怀里似的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这里表达了作者望星天所产生的甜蜜、温馨之感和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  <a:ea typeface="隶书"/>
              </a:rPr>
              <a:t>依恋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  <a:ea typeface="隶书"/>
              </a:rPr>
              <a:t>之情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图片 13315" descr="童趣观星图"/>
          <p:cNvPicPr/>
          <p:nvPr/>
        </p:nvPicPr>
        <p:blipFill>
          <a:blip r:embed="rId1"/>
          <a:stretch/>
        </p:blipFill>
        <p:spPr>
          <a:xfrm>
            <a:off x="3429000" y="2692440"/>
            <a:ext cx="5715000" cy="4165560"/>
          </a:xfrm>
          <a:prstGeom prst="rect">
            <a:avLst/>
          </a:prstGeom>
          <a:ln w="0">
            <a:noFill/>
          </a:ln>
        </p:spPr>
      </p:pic>
      <p:sp>
        <p:nvSpPr>
          <p:cNvPr id="588" name="文本框 13316"/>
          <p:cNvSpPr/>
          <p:nvPr/>
        </p:nvSpPr>
        <p:spPr>
          <a:xfrm>
            <a:off x="252360" y="117360"/>
            <a:ext cx="370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情感探究</a:t>
            </a: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3T03:43:44Z</dcterms:created>
  <dc:creator/>
  <dc:description/>
  <dc:language>en-US</dc:language>
  <cp:lastModifiedBy>万润仪器贸易公司</cp:lastModifiedBy>
  <dcterms:modified xsi:type="dcterms:W3CDTF">2020-08-24T03:34:24Z</dcterms:modified>
  <cp:revision>2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